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34A6-2B81-4260-BC3F-6E6E9836C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333A-1C0C-402C-B352-A5D9AC6A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BD45-0024-4860-9A05-9262CCA0F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9369-A0CD-4B50-887F-0D43FA10D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3559-721A-461C-BFA7-6AEA7185D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B36F-5D0E-4601-99F9-AD530E23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F142-2DD7-4BFA-A76F-36D2C575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7F02-9E97-4328-AF1B-FC2081CA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6F05-E9F9-408E-9EB9-00F6E92B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F791-3B21-45C6-AEED-739D6808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8888-8110-41B0-90D3-1DE7AA60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9262-E69A-42C9-8EA2-AF19796B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8A92-A10F-4A68-B6FD-62643AE8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7311-B4D9-49EC-AB47-253E15C2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B07B0-52CA-467C-8CBA-C4687B80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2B6C-6F63-4B72-B8EB-7C337F5C8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52A4-768F-406B-9F67-ADE41C2A7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C391-E5C5-4189-B2BE-2AFD42BB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C88B-3AFA-4C0E-813D-920AC2B7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7EB9-4384-4C1D-9868-A0EFE370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E510-9255-4843-A141-100CE27F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B78E-D3FC-4029-947C-10123D3B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4716-6FDD-45CD-AF80-EB4AD57B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7B0C-9599-42C0-87FE-ED1292DD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9464-B6A8-4FEE-A09D-7CB5A6FA7EF0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AAF0-7E6E-4D62-95C7-27B8E949ACC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542B-37EF-4476-9C50-839BD1E37298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EC98-20B0-4802-852B-D296A4F6182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5991-E246-404A-9162-9F4837D010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86800" cy="175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c0000"/>
                </a:solidFill>
                <a:latin typeface="黑体"/>
                <a:ea typeface="黑体"/>
              </a:rPr>
              <a:t>第十二章  消费者的品牌心理与行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332000" y="2565360"/>
            <a:ext cx="669600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  品牌的内涵与构成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  品牌心理的形成机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  消费者的品牌购买行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 增强消费者的品牌偏好与忠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C027-90F4-4FC2-8AA8-955E967CF3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心理作用机制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6000" y="1413000"/>
            <a:ext cx="7570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认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认知过程是指消费者认识、了解、确信并接受品牌的过程，是品牌发生作用的心理基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定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个性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情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内容占位符 2"/>
          <p:cNvSpPr/>
          <p:nvPr/>
        </p:nvSpPr>
        <p:spPr>
          <a:xfrm>
            <a:off x="4356000" y="981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19280" y="620280"/>
            <a:ext cx="63928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品牌的心理效应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32000" y="1719360"/>
            <a:ext cx="7354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差异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光环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情感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魅力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附加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692000" y="1719360"/>
            <a:ext cx="6994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在消费者购买行为中的作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品牌转换行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2030-F812-4E35-B488-5E22B32E24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标题 1"/>
          <p:cNvSpPr/>
          <p:nvPr/>
        </p:nvSpPr>
        <p:spPr>
          <a:xfrm>
            <a:off x="179280" y="260280"/>
            <a:ext cx="847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 消费者的品牌购买行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179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在消费者购买行为中的作用</a:t>
            </a:r>
            <a:br>
              <a:rPr sz="36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3280" y="2133360"/>
            <a:ext cx="72835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寻找解决方案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评价比较方案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购后评价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AEA5-49B2-417D-9D0B-69D083739AA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543800" cy="130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品牌转换行为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14FE-7F9B-4B06-B1C4-2A225D3621E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71640" y="1341000"/>
            <a:ext cx="77263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品牌转换的产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品牌转换的影响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消费者因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卷入程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的产品知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特征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企业营销因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市场竞争结构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8920" y="122400"/>
            <a:ext cx="8209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四节  增强消费者的品牌偏好与忠诚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忠诚的概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忠诚形成的心理机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增强消费者品牌忠诚的措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CA48-40F9-4374-B64D-9757F96952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6F80-59E8-4A8D-A25B-E8D766B937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忠诚的概念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675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he behavioral approac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he attitudinal approac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忠诚的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非随机的，有倾向性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具有行为反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在较长时间内持续表现出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经过某些决策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针对某品牌集合中的一个或多个特定品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决策、评价等心理过程的函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0D77-63E5-471B-A17E-6B39CA60DD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7821720" cy="137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忠诚形成的心理机制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1116000" y="1989000"/>
            <a:ext cx="1657440" cy="719280"/>
          </a:xfrm>
          <a:custGeom>
            <a:avLst/>
            <a:gdLst>
              <a:gd name="textAreaLeft" fmla="*/ 0 w 1657440"/>
              <a:gd name="textAreaRight" fmla="*/ 1657800 w 16574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73" y="0"/>
                </a:lnTo>
                <a:lnTo>
                  <a:pt x="21600" y="10800"/>
                </a:lnTo>
                <a:lnTo>
                  <a:pt x="1387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认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3132000" y="1987560"/>
            <a:ext cx="1656000" cy="72072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843" y="0"/>
                </a:lnTo>
                <a:lnTo>
                  <a:pt x="21600" y="10800"/>
                </a:lnTo>
                <a:lnTo>
                  <a:pt x="14843" y="21600"/>
                </a:lnTo>
                <a:lnTo>
                  <a:pt x="0" y="21600"/>
                </a:lnTo>
                <a:lnTo>
                  <a:pt x="675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态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5292720" y="2060640"/>
            <a:ext cx="1368360" cy="720720"/>
          </a:xfrm>
          <a:prstGeom prst="flowChartProcess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行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403280" y="3357720"/>
            <a:ext cx="540072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E8CC-17F3-4066-9793-86976979645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547640" y="2276640"/>
            <a:ext cx="722160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强化消费者的品牌意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升产品与服务品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构建品牌信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善用品牌联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高品牌转换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-360" y="765000"/>
            <a:ext cx="8001000" cy="122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增强消费者品牌忠诚的措施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 品牌的内涵与构成 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的定义及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BAF0-E2DC-4DAF-86CC-ECFEEEE418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42560" y="1915920"/>
            <a:ext cx="76438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起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关于品牌定义的研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163F-54C8-4669-831A-7989B9E48F6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A12D-A4C1-47C7-B474-B61062B6E9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br>
              <a:rPr sz="3200"/>
            </a:b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起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关于品牌定义的研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标识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资产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信号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符号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是人类消费发展的产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物质载体是产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特定内容是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特定对象是消费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-360" y="54900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br>
              <a:rPr sz="3200"/>
            </a:b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92FB-D86C-472A-A8D2-7D97BB700F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构成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显性要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显性要素是品牌展现在外的、具体的，消费者可以直接感知的成份，主要指品牌及其所标定产品的名称、标识、包装设计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名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视觉标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8ED2-EDEE-4716-BBCF-CB701A2B45B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构成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隐性要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中不能被直接触摸和感觉到的就被称为品牌的隐性要素，它是 存在于品牌整个形成过程的核心要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承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个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体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 品牌心理的形成机制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835280" y="1719360"/>
            <a:ext cx="6851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的心理作用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的心理作用机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品牌的心理效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59B8-CB2A-468E-ADB7-55BDB18FFF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64F4-627E-4083-ACAC-4FAC2051F9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5000" y="476280"/>
            <a:ext cx="754380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心理作用基础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                                                                                        </a:t>
            </a:r>
            <a:br>
              <a:rPr sz="36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763640" y="1700280"/>
            <a:ext cx="6716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象征意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个性的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价值的实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情感意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内容占位符 2"/>
          <p:cNvSpPr/>
          <p:nvPr/>
        </p:nvSpPr>
        <p:spPr>
          <a:xfrm>
            <a:off x="3924360" y="1197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0T08:20:57Z</dcterms:created>
  <dc:creator>jianglin</dc:creator>
  <dc:description/>
  <dc:language>en-US</dc:language>
  <cp:lastModifiedBy>Administrator</cp:lastModifiedBy>
  <dcterms:modified xsi:type="dcterms:W3CDTF">2015-09-03T09:22:45Z</dcterms:modified>
  <cp:revision>114</cp:revision>
  <dc:subject/>
  <dc:title>PowerPoint 演示文稿</dc:title>
</cp:coreProperties>
</file>